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6BC-96D5-4C33-991C-C409C437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639-4D64-4ABC-ADD9-6634078D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1610-4CDA-45CA-8F6F-288E560C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479-2D54-43F2-8A7A-E96A9BFA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B07-81F6-4047-9943-221F1D6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A88-8F4B-4749-97A4-B5B60175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6A5-8ACF-4C2B-8A24-4B1281EC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ACF-18CA-4921-AA06-50C1522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33E-EF07-4938-A8BF-909D8AA9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322-62D8-49B5-A098-0864159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7B7-EFC0-470B-9AE6-DB2A2CC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C27-D8FD-4D64-9A48-1EF679EC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68F-D76D-411D-871E-C3251CA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F19-3CBF-42E0-9C4B-50DE9F4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6A7-5B1F-4E48-86D9-11EB51C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EE6-89B0-464D-9E55-2791C42B51FD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bibliography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bliography2"/>
          <p:cNvPicPr/>
          <p:nvPr/>
        </p:nvPicPr>
        <p:blipFill>
          <a:blip r:embed="rId1"/>
          <a:stretch/>
        </p:blipFill>
        <p:spPr>
          <a:xfrm>
            <a:off x="0" y="-8568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320040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6095880" y="2286000"/>
            <a:ext cx="196848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4876920" y="1143000"/>
            <a:ext cx="4267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1447920" y="5181480"/>
            <a:ext cx="55623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3200400" y="2362320"/>
            <a:ext cx="91440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286000" y="1295280"/>
            <a:ext cx="37339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ck here fir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owledge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arch your question her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ert help for tricky sourc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100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4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sha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Oval 18"/>
          <p:cNvSpPr/>
          <p:nvPr/>
        </p:nvSpPr>
        <p:spPr>
          <a:xfrm>
            <a:off x="228600" y="685800"/>
            <a:ext cx="236232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52280" y="2666880"/>
            <a:ext cx="23623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hare list with me, use comments to fix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xport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3" name="Picture 6" descr="export2"/>
          <p:cNvPicPr/>
          <p:nvPr/>
        </p:nvPicPr>
        <p:blipFill>
          <a:blip r:embed="rId2"/>
          <a:stretch/>
        </p:blipFill>
        <p:spPr>
          <a:xfrm>
            <a:off x="3952800" y="4505400"/>
            <a:ext cx="5191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Follow the handout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t the “New User Registration” screen, enter school name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Record these on your handout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en you use NoodleBib after that, login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 with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merican Icons Research Pap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research projec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MLA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m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research paper in Microsoft 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art3.png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5880" y="236196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019920" y="1752480"/>
            <a:ext cx="2666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start1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1237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0" y="1752480"/>
            <a:ext cx="3581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181480" y="685800"/>
            <a:ext cx="19051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666880" y="3276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200400" y="3962520"/>
            <a:ext cx="2895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876920" y="44197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4191120" y="62485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469800" y="736560"/>
            <a:ext cx="5092920" cy="55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13" descr="check3"/>
          <p:cNvPicPr/>
          <p:nvPr/>
        </p:nvPicPr>
        <p:blipFill>
          <a:blip r:embed="rId2"/>
          <a:stretch/>
        </p:blipFill>
        <p:spPr>
          <a:xfrm>
            <a:off x="76320" y="990720"/>
            <a:ext cx="4819680" cy="4924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4495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3276720" y="1371600"/>
            <a:ext cx="3835440" cy="1523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heck2"/>
          <p:cNvPicPr/>
          <p:nvPr/>
        </p:nvPicPr>
        <p:blipFill>
          <a:blip r:embed="rId2"/>
          <a:stretch/>
        </p:blipFill>
        <p:spPr>
          <a:xfrm>
            <a:off x="0" y="3781440"/>
            <a:ext cx="914400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3733920" y="5867280"/>
            <a:ext cx="11430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121932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111480" y="2743200"/>
            <a:ext cx="2908440" cy="3124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4876920" y="838080"/>
            <a:ext cx="3657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heck1"/>
          <p:cNvPicPr/>
          <p:nvPr/>
        </p:nvPicPr>
        <p:blipFill>
          <a:blip r:embed="rId2"/>
          <a:stretch/>
        </p:blipFill>
        <p:spPr>
          <a:xfrm>
            <a:off x="36360" y="2819520"/>
            <a:ext cx="910764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Mrs. Reichert</cp:lastModifiedBy>
  <dcterms:modified xsi:type="dcterms:W3CDTF">2009-03-02T00:04:15Z</dcterms:modified>
  <cp:revision>41</cp:revision>
  <dc:subject/>
  <dc:title>Creating a Bibliography or Source List</dc:title>
</cp:coreProperties>
</file>