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D2FE-ABFA-4B08-89B9-A2B1E375E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D8B2-A6F2-4436-9C58-38EA1BCAC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42F9-0825-4A8B-BFA0-CD5571637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DBE-DD47-4AF1-AEAE-F19B054B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03F-899A-4457-9F73-BF85248E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CC5-6265-4F31-AEA4-5CD64FE6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B95-1079-4DD2-A4D5-FDAB398E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25E-18C5-4C35-938A-CADFC4C6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BB5-9E79-4C33-A718-801B59FC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F66-FAAD-4B07-AD6D-962D2F3E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DE9-B894-4F18-8408-9F6164D7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71E-FB82-4D03-9DE3-04F5648C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EB0-19D5-4816-AD7E-126974F5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0A2-1D7C-4FDB-A4E2-5BEC5DC7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259-7EAF-44AB-8FB7-D5F1D211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A2DB-9369-4A88-A7B3-E5E6B5E8EADC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000"/>
            </a:b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Create a bibliography</a:t>
            </a:r>
            <a:endParaRPr b="0" lang="en-US" sz="40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bibliography2"/>
          <p:cNvPicPr/>
          <p:nvPr/>
        </p:nvPicPr>
        <p:blipFill>
          <a:blip r:embed="rId1"/>
          <a:stretch/>
        </p:blipFill>
        <p:spPr>
          <a:xfrm>
            <a:off x="-38160" y="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Compile your working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ibliography2"/>
          <p:cNvPicPr/>
          <p:nvPr/>
        </p:nvPicPr>
        <p:blipFill>
          <a:blip r:embed="rId1"/>
          <a:stretch/>
        </p:blipFill>
        <p:spPr>
          <a:xfrm>
            <a:off x="0" y="-8568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57240" y="114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If you’re confused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8077320" y="3200400"/>
            <a:ext cx="10666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6095880" y="2286000"/>
            <a:ext cx="1968480" cy="1143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4876920" y="1143000"/>
            <a:ext cx="42670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elp2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Oval 4"/>
          <p:cNvSpPr/>
          <p:nvPr/>
        </p:nvSpPr>
        <p:spPr>
          <a:xfrm>
            <a:off x="1447920" y="5181480"/>
            <a:ext cx="55623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3200400" y="2362320"/>
            <a:ext cx="914400" cy="2819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2286000" y="1295280"/>
            <a:ext cx="373392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ck here fir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knowledge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66880" y="685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earch your question here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elp2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77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Expert help for tricky source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3"/>
          <p:cNvGrpSpPr/>
          <p:nvPr/>
        </p:nvGrpSpPr>
        <p:grpSpPr>
          <a:xfrm>
            <a:off x="0" y="0"/>
            <a:ext cx="9172440" cy="6475320"/>
            <a:chOff x="0" y="0"/>
            <a:chExt cx="9172440" cy="6475320"/>
          </a:xfrm>
        </p:grpSpPr>
        <p:pic>
          <p:nvPicPr>
            <p:cNvPr id="100" name="Picture 8" descr="analysis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72440" cy="61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Oval 5"/>
            <p:cNvSpPr/>
            <p:nvPr/>
          </p:nvSpPr>
          <p:spPr>
            <a:xfrm>
              <a:off x="5486400" y="272520"/>
              <a:ext cx="3657600" cy="40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5867280" y="4021560"/>
              <a:ext cx="3276720" cy="40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5257800" y="1839960"/>
              <a:ext cx="3886200" cy="477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104" name="Picture 11" descr="analysis2f"/>
            <p:cNvPicPr/>
            <p:nvPr/>
          </p:nvPicPr>
          <p:blipFill>
            <a:blip r:embed="rId2"/>
            <a:stretch/>
          </p:blipFill>
          <p:spPr>
            <a:xfrm>
              <a:off x="12600" y="5981040"/>
              <a:ext cx="9118800" cy="4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Oval 12"/>
            <p:cNvSpPr/>
            <p:nvPr/>
          </p:nvSpPr>
          <p:spPr>
            <a:xfrm>
              <a:off x="4191120" y="5725080"/>
              <a:ext cx="4952880" cy="681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95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alyze your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sha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Oval 18"/>
          <p:cNvSpPr/>
          <p:nvPr/>
        </p:nvSpPr>
        <p:spPr>
          <a:xfrm>
            <a:off x="228600" y="685800"/>
            <a:ext cx="236232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152280" y="2666880"/>
            <a:ext cx="236232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hare list with me, use comments to fix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export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114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Export option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13" name="Picture 6" descr="export2"/>
          <p:cNvPicPr/>
          <p:nvPr/>
        </p:nvPicPr>
        <p:blipFill>
          <a:blip r:embed="rId2"/>
          <a:stretch/>
        </p:blipFill>
        <p:spPr>
          <a:xfrm>
            <a:off x="3952800" y="4505400"/>
            <a:ext cx="51912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portfolio3"/>
          <p:cNvPicPr/>
          <p:nvPr/>
        </p:nvPicPr>
        <p:blipFill>
          <a:blip r:embed="rId1"/>
          <a:stretch/>
        </p:blipFill>
        <p:spPr>
          <a:xfrm>
            <a:off x="-9360" y="762120"/>
            <a:ext cx="9153360" cy="6095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Keep all your list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Follow the handout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t the “New User Registration” screen, enter school name and pass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your personal ID and pass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Record these on your handout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When you use NoodleBib after that, login </a:t>
            </a:r>
            <a:r>
              <a:rPr b="0" i="1" lang="en-US" sz="2800" spc="-1" strike="noStrike">
                <a:solidFill>
                  <a:srgbClr val="406b8c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 with your personal ID and pass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organize and store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merican Icons Research Paper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More instructions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Specifically for this research project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Use MLA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ite as you go (books, wikis, databases…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dd notes as you rea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hare your working list and notes with m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feedback as you go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notes with tags and cluster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research paper in Microsoft 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Start your source list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start3.png"/>
          <p:cNvPicPr/>
          <p:nvPr/>
        </p:nvPicPr>
        <p:blipFill>
          <a:blip r:embed="rId1"/>
          <a:stretch/>
        </p:blipFill>
        <p:spPr>
          <a:xfrm>
            <a:off x="55440" y="0"/>
            <a:ext cx="9033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5880" y="2361960"/>
            <a:ext cx="2819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rt by choosing</a:t>
            </a:r>
            <a:br>
              <a:rPr sz="3200"/>
            </a:b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 style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6019920" y="1752480"/>
            <a:ext cx="26668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start1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6200" y="31237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at’s your source?</a:t>
            </a:r>
            <a:br>
              <a:rPr sz="32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hoose the best match</a:t>
            </a:r>
            <a:br>
              <a:rPr sz="24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from the drop-down menu</a:t>
            </a:r>
            <a:endParaRPr b="0" lang="en-US" sz="2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0" y="1752480"/>
            <a:ext cx="35812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1523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Fill in the form</a:t>
            </a:r>
            <a:br>
              <a:rPr sz="32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ut-and-paste to avoid spelling errors</a:t>
            </a:r>
            <a:endParaRPr b="0" lang="en-US" sz="24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447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Get help on each field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5181480" y="685800"/>
            <a:ext cx="19051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5334120" y="2895480"/>
            <a:ext cx="19047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2666880" y="3276720"/>
            <a:ext cx="19051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3200400" y="3962520"/>
            <a:ext cx="2895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4876920" y="4419720"/>
            <a:ext cx="1904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4191120" y="6248520"/>
            <a:ext cx="1904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469800" y="736560"/>
            <a:ext cx="5092920" cy="558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5334120" y="2895480"/>
            <a:ext cx="19047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13" descr="check3"/>
          <p:cNvPicPr/>
          <p:nvPr/>
        </p:nvPicPr>
        <p:blipFill>
          <a:blip r:embed="rId2"/>
          <a:stretch/>
        </p:blipFill>
        <p:spPr>
          <a:xfrm>
            <a:off x="76320" y="990720"/>
            <a:ext cx="4819680" cy="4924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4495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 pops up!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3276720" y="1371600"/>
            <a:ext cx="3835440" cy="1523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heck2"/>
          <p:cNvPicPr/>
          <p:nvPr/>
        </p:nvPicPr>
        <p:blipFill>
          <a:blip r:embed="rId2"/>
          <a:stretch/>
        </p:blipFill>
        <p:spPr>
          <a:xfrm>
            <a:off x="0" y="3781440"/>
            <a:ext cx="9144000" cy="3076560"/>
          </a:xfrm>
          <a:prstGeom prst="rect">
            <a:avLst/>
          </a:prstGeom>
          <a:ln w="0">
            <a:noFill/>
          </a:ln>
        </p:spPr>
      </p:pic>
      <p:sp>
        <p:nvSpPr>
          <p:cNvPr id="76" name="Oval 6"/>
          <p:cNvSpPr/>
          <p:nvPr/>
        </p:nvSpPr>
        <p:spPr>
          <a:xfrm>
            <a:off x="3733920" y="5867280"/>
            <a:ext cx="11430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121932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en you’re done, check for errors…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8" name="Freeform 10"/>
          <p:cNvSpPr/>
          <p:nvPr/>
        </p:nvSpPr>
        <p:spPr>
          <a:xfrm>
            <a:off x="3111480" y="2743200"/>
            <a:ext cx="2908440" cy="3124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4876920" y="838080"/>
            <a:ext cx="3657600" cy="198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heck1"/>
          <p:cNvPicPr/>
          <p:nvPr/>
        </p:nvPicPr>
        <p:blipFill>
          <a:blip r:embed="rId2"/>
          <a:stretch/>
        </p:blipFill>
        <p:spPr>
          <a:xfrm>
            <a:off x="36360" y="2819520"/>
            <a:ext cx="910764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20570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d make change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/>
  <dc:description/>
  <dc:language>en-US</dc:language>
  <cp:lastModifiedBy>Mrs. Reichert</cp:lastModifiedBy>
  <dcterms:modified xsi:type="dcterms:W3CDTF">2009-03-02T00:04:15Z</dcterms:modified>
  <cp:revision>41</cp:revision>
  <dc:subject/>
  <dc:title>Creating a Bibliography or Source List</dc:title>
</cp:coreProperties>
</file>