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643-0866-4B31-8FDF-28433D2B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A1B9-E958-433A-A220-4D78FBEE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556C-5BF2-4B61-A961-7E0CDAA0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E74-ABD8-4832-86B7-E048A0FA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EC4-0A29-4121-BBA9-64E1F36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A0D-B2A8-46FD-90E0-F8B9252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495-5B40-4A24-B471-823D904B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6AD-C58C-43DD-83A5-5008CD0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646-AFB5-45D9-BEA8-E542AA18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504-BA57-444E-B153-48F2308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520-4BD8-46E6-8B0E-EFBD9108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34A-921D-42F2-9A80-B0C021AE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17A-C25E-4538-A8F1-20472C2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C47-3F61-4FE0-9369-3026E91C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3EE-1C06-4251-821A-7F708D4B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1BE2-672D-43C9-92F2-22E1E53B52B2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bibliography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ompile your working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ibliography2"/>
          <p:cNvPicPr/>
          <p:nvPr/>
        </p:nvPicPr>
        <p:blipFill>
          <a:blip r:embed="rId1"/>
          <a:stretch/>
        </p:blipFill>
        <p:spPr>
          <a:xfrm>
            <a:off x="0" y="-8568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7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If you’re confuse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077320" y="3200400"/>
            <a:ext cx="10666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6095880" y="2286000"/>
            <a:ext cx="1968480" cy="1143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4876920" y="1143000"/>
            <a:ext cx="42670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>
            <a:off x="1447920" y="5181480"/>
            <a:ext cx="55623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3200400" y="2362320"/>
            <a:ext cx="914400" cy="281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2286000" y="1295280"/>
            <a:ext cx="37339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ck here fir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knowledge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earch your question her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elp2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77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ert help for tricky sourc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3"/>
          <p:cNvGrpSpPr/>
          <p:nvPr/>
        </p:nvGrpSpPr>
        <p:grpSpPr>
          <a:xfrm>
            <a:off x="0" y="0"/>
            <a:ext cx="9172440" cy="6475320"/>
            <a:chOff x="0" y="0"/>
            <a:chExt cx="9172440" cy="6475320"/>
          </a:xfrm>
        </p:grpSpPr>
        <p:pic>
          <p:nvPicPr>
            <p:cNvPr id="100" name="Picture 8" descr="analysis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72440" cy="61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5"/>
            <p:cNvSpPr/>
            <p:nvPr/>
          </p:nvSpPr>
          <p:spPr>
            <a:xfrm>
              <a:off x="5486400" y="272520"/>
              <a:ext cx="365760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5867280" y="4021560"/>
              <a:ext cx="327672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5257800" y="1839960"/>
              <a:ext cx="3886200" cy="477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4" name="Picture 11" descr="analysis2f"/>
            <p:cNvPicPr/>
            <p:nvPr/>
          </p:nvPicPr>
          <p:blipFill>
            <a:blip r:embed="rId2"/>
            <a:stretch/>
          </p:blipFill>
          <p:spPr>
            <a:xfrm>
              <a:off x="12600" y="5981040"/>
              <a:ext cx="9118800" cy="4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12"/>
            <p:cNvSpPr/>
            <p:nvPr/>
          </p:nvSpPr>
          <p:spPr>
            <a:xfrm>
              <a:off x="4191120" y="5725080"/>
              <a:ext cx="4952880" cy="681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alyze your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sha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Oval 18"/>
          <p:cNvSpPr/>
          <p:nvPr/>
        </p:nvSpPr>
        <p:spPr>
          <a:xfrm>
            <a:off x="228600" y="685800"/>
            <a:ext cx="236232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52280" y="2666880"/>
            <a:ext cx="236232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hare list with me, use comments to fix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xport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114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Export option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3" name="Picture 6" descr="export2"/>
          <p:cNvPicPr/>
          <p:nvPr/>
        </p:nvPicPr>
        <p:blipFill>
          <a:blip r:embed="rId2"/>
          <a:stretch/>
        </p:blipFill>
        <p:spPr>
          <a:xfrm>
            <a:off x="3952800" y="4505400"/>
            <a:ext cx="5191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rtfolio3"/>
          <p:cNvPicPr/>
          <p:nvPr/>
        </p:nvPicPr>
        <p:blipFill>
          <a:blip r:embed="rId1"/>
          <a:stretch/>
        </p:blipFill>
        <p:spPr>
          <a:xfrm>
            <a:off x="-9360" y="76212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Keep all your list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Follow the handout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t the “New User Registration” screen, enter school name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Record these on your handout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en you use NoodleBib after that, login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 with your personal ID and pass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merican Icons Research Paper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research project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MLA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m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research paper in Microsoft Wor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start3.png"/>
          <p:cNvPicPr/>
          <p:nvPr/>
        </p:nvPicPr>
        <p:blipFill>
          <a:blip r:embed="rId1"/>
          <a:stretch/>
        </p:blipFill>
        <p:spPr>
          <a:xfrm>
            <a:off x="55440" y="0"/>
            <a:ext cx="9033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5880" y="2361960"/>
            <a:ext cx="2819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rt by choosing</a:t>
            </a: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 styl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6019920" y="1752480"/>
            <a:ext cx="26668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start1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6200" y="31237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’s your source?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0" y="1752480"/>
            <a:ext cx="35812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1523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ill in the form</a:t>
            </a:r>
            <a:br>
              <a:rPr sz="32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447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5181480" y="685800"/>
            <a:ext cx="19051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666880" y="3276720"/>
            <a:ext cx="19051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200400" y="3962520"/>
            <a:ext cx="2895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876920" y="44197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4191120" y="6248520"/>
            <a:ext cx="1904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469800" y="736560"/>
            <a:ext cx="5092920" cy="558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13" descr="check3"/>
          <p:cNvPicPr/>
          <p:nvPr/>
        </p:nvPicPr>
        <p:blipFill>
          <a:blip r:embed="rId2"/>
          <a:stretch/>
        </p:blipFill>
        <p:spPr>
          <a:xfrm>
            <a:off x="76320" y="990720"/>
            <a:ext cx="4819680" cy="4924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4495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3276720" y="1371600"/>
            <a:ext cx="3835440" cy="1523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heck2"/>
          <p:cNvPicPr/>
          <p:nvPr/>
        </p:nvPicPr>
        <p:blipFill>
          <a:blip r:embed="rId2"/>
          <a:stretch/>
        </p:blipFill>
        <p:spPr>
          <a:xfrm>
            <a:off x="0" y="3781440"/>
            <a:ext cx="9144000" cy="307656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3733920" y="5867280"/>
            <a:ext cx="11430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121932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en you’re done, check for errors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3111480" y="2743200"/>
            <a:ext cx="2908440" cy="3124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4876920" y="838080"/>
            <a:ext cx="365760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opup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heck1"/>
          <p:cNvPicPr/>
          <p:nvPr/>
        </p:nvPicPr>
        <p:blipFill>
          <a:blip r:embed="rId2"/>
          <a:stretch/>
        </p:blipFill>
        <p:spPr>
          <a:xfrm>
            <a:off x="36360" y="2819520"/>
            <a:ext cx="910764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Mrs. Reichert</cp:lastModifiedBy>
  <dcterms:modified xsi:type="dcterms:W3CDTF">2009-03-02T00:04:15Z</dcterms:modified>
  <cp:revision>41</cp:revision>
  <dc:subject/>
  <dc:title>Creating a Bibliography or Source List</dc:title>
</cp:coreProperties>
</file>