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393B-CA2D-407A-AD38-2217E583C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DBD4-DD59-4A56-B2D8-A0BFE22539D1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2571-E6EA-4F38-A372-6A81615575D9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4F3-0F41-4043-A106-6A4A65EC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0C1-BAC1-4C75-9605-AA24C480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6EEC-C8F2-449D-A427-D8F84ED5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56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14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56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14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B9C-F6BF-4A89-8273-D5FF9C7A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EFC-44DD-4318-89A8-798863C4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897-3697-42B0-BA8D-3F667438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9B2-D966-4894-8A60-BEE915C9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A87-4DE5-4BA9-8EAF-3EC3EE8E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240" y="759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D3E-04A9-49AA-B40C-DB395E69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EED-8BD0-4E33-B368-CAD83A66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E6E-63E6-4F1C-9E45-928D3D1A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66A-13A5-4559-9EF5-134D6C0F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6b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AC21-C50C-4644-9FB1-90BDDB508DC2}" type="slidenum">
              <a:rPr b="0" lang="en-US" sz="14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Bib </a:t>
            </a:r>
            <a:br>
              <a:rPr sz="4400"/>
            </a:b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Helps you use your “noodle”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do I wonder now? 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04920" y="5029200"/>
            <a:ext cx="8686800" cy="7621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 flipH="1">
            <a:off x="1904760" y="914400"/>
            <a:ext cx="3886200" cy="4114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62120" y="57150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What should I investigate next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75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Easy to go back to the sourc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28600" y="2362320"/>
            <a:ext cx="7772400" cy="6094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09480" y="571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Rereading may clear up question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Label the main idea now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2057400"/>
            <a:ext cx="16002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H="1">
            <a:off x="1752480" y="838080"/>
            <a:ext cx="335304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762120" y="57150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’ll remember what this note is about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38120" y="15228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Tag it now, or later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990720" y="2819520"/>
            <a:ext cx="25146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 flipH="1">
            <a:off x="3504960" y="914400"/>
            <a:ext cx="2971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57200" y="5715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Its easier to tag when you have more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Put it in a cluster, now or later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6320" y="1676520"/>
            <a:ext cx="18288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7696080" y="1676520"/>
            <a:ext cx="129564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 flipH="1">
            <a:off x="2057040" y="1295280"/>
            <a:ext cx="2514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572000" y="1295280"/>
            <a:ext cx="304812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457200" y="5715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Its easier to cluster when you know mor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luster2"/>
          <p:cNvPicPr/>
          <p:nvPr/>
        </p:nvPicPr>
        <p:blipFill>
          <a:blip r:embed="rId1"/>
          <a:stretch/>
        </p:blipFill>
        <p:spPr>
          <a:xfrm>
            <a:off x="-76320" y="0"/>
            <a:ext cx="91918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837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uster view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Get help along the way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6705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Get feedback, make changes 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Print out [source list, notes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E-mail [source list, notes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t up “share” within NoodleBib to get comment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Enough information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Now it’s time to overview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an I add </a:t>
            </a:r>
            <a:r>
              <a:rPr b="0" i="1" lang="en-US" sz="2800" spc="-1" strike="noStrike">
                <a:solidFill>
                  <a:srgbClr val="406b8c"/>
                </a:solidFill>
                <a:latin typeface="Arial"/>
              </a:rPr>
              <a:t>more tags </a:t>
            </a: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now that I know more?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Label details, themes, concepts you se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Tags will help you order - and reorder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Do I have notes with similar titles?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re they about the same idea (subtopic)?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What if I put them together in a cluster?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Using tags and clusters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Play with the order, be curious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What if I try new combinations of notes? (search by tags)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Find all notes with the same tag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earch two or more common tags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Does this suggest new ways to analyze what I know?  New ideas?  New questions?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followup2"/>
          <p:cNvPicPr/>
          <p:nvPr/>
        </p:nvPicPr>
        <p:blipFill>
          <a:blip r:embed="rId1"/>
          <a:stretch/>
        </p:blipFill>
        <p:spPr>
          <a:xfrm>
            <a:off x="0" y="2286000"/>
            <a:ext cx="8555040" cy="4400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Don’t forget to follow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your</a:t>
            </a: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deas</a:t>
            </a: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2a475c"/>
              </a:solidFill>
              <a:latin typeface="Arial"/>
            </a:endParaRPr>
          </a:p>
        </p:txBody>
      </p:sp>
      <p:pic>
        <p:nvPicPr>
          <p:cNvPr id="119" name="Picture 4" descr="followup1"/>
          <p:cNvPicPr/>
          <p:nvPr/>
        </p:nvPicPr>
        <p:blipFill>
          <a:blip r:embed="rId2"/>
          <a:stretch/>
        </p:blipFill>
        <p:spPr>
          <a:xfrm>
            <a:off x="533520" y="1295280"/>
            <a:ext cx="8516880" cy="3267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609480" y="3352680"/>
            <a:ext cx="6858000" cy="114300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04920" y="5334120"/>
            <a:ext cx="7696080" cy="1066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is NoodleBib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Create, store, organize 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a bibliography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e notes onlin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Organize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Develop your own ideas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Think about what’s important 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[essay, speech, product…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bibliography2"/>
          <p:cNvPicPr/>
          <p:nvPr/>
        </p:nvPicPr>
        <p:blipFill>
          <a:blip r:embed="rId1"/>
          <a:stretch/>
        </p:blipFill>
        <p:spPr>
          <a:xfrm>
            <a:off x="-38160" y="0"/>
            <a:ext cx="9220320" cy="69436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Easy to add more if you need to!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Use your “noodle”!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tay organized, feel successfu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ccess your work from home and school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afeguard against accidental plagiarism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pend time on ideas, not on commas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Get curious, feel creative…have fun!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” time…start thinking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itations + notes =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Work you’ll be proud of!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an accurate, relevant [source list, bibliography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orrect style, punctuation, formatting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Prompts you to check for quality, balanc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Organize your work: take notes, clump idea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ources stay linked to note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Easy to quote and referenc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Prompts you to think: summarize, evaluate, question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bibliography2"/>
          <p:cNvPicPr/>
          <p:nvPr/>
        </p:nvPicPr>
        <p:blipFill>
          <a:blip r:embed="rId1"/>
          <a:stretch/>
        </p:blipFill>
        <p:spPr>
          <a:xfrm>
            <a:off x="-38160" y="-42840"/>
            <a:ext cx="9220320" cy="6943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0" y="12189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List view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6" name="Oval 9"/>
          <p:cNvSpPr/>
          <p:nvPr/>
        </p:nvSpPr>
        <p:spPr>
          <a:xfrm>
            <a:off x="6248520" y="2286000"/>
            <a:ext cx="1676160" cy="457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notes_inline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05720" y="914040"/>
            <a:ext cx="1676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Source</a:t>
            </a:r>
            <a:br>
              <a:rPr sz="3600"/>
            </a:b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Not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57200" y="1066680"/>
            <a:ext cx="8229600" cy="48769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 flipH="1" flipV="1">
            <a:off x="2133360" y="685440"/>
            <a:ext cx="46479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H="1" flipV="1">
            <a:off x="3428640" y="2361960"/>
            <a:ext cx="33526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Notetaking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Three-part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406b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apture author’s words, images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Get quotes and attribution right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406b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nnotate the “cut-and-paste”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Helps you understand author’s ideas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406b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Paraphrase in your own word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Analyze how it fits your research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Ask questions, evaluate ideas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Prompts for original thinking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7600" y="759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ut-and-paste firs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762120" y="57150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’ll get quotes and attribution right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H="1">
            <a:off x="1600200" y="1752480"/>
            <a:ext cx="2819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6629400" y="1752480"/>
            <a:ext cx="38088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733920" y="1371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uthor’s word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5715000" y="1386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uthor’s imag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00400" y="75960"/>
            <a:ext cx="5105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olor-code your ideas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 flipH="1">
            <a:off x="3580920" y="1828800"/>
            <a:ext cx="838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H="1">
            <a:off x="5409720" y="1828800"/>
            <a:ext cx="114300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505320" y="1187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d for problems, Green for solution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71500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ighlight to notic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4572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Annotation helps your comprehension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440" y="1522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Explain it to yourself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04920" y="4267080"/>
            <a:ext cx="8686800" cy="7621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 flipH="1">
            <a:off x="2133720" y="914400"/>
            <a:ext cx="3581280" cy="3352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62120" y="57150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Use words you understand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27:40Z</dcterms:created>
  <dc:creator>admin</dc:creator>
  <dc:description/>
  <dc:language>en-US</dc:language>
  <cp:lastModifiedBy>Mrs. Reichert</cp:lastModifiedBy>
  <dcterms:modified xsi:type="dcterms:W3CDTF">2009-03-02T00:05:48Z</dcterms:modified>
  <cp:revision>30</cp:revision>
  <dc:subject/>
  <dc:title>Slide 1</dc:title>
</cp:coreProperties>
</file>