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E1D4-9DA4-46C9-8FEF-92DAE073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E00B-38B4-4873-B049-C0634F30C55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955-45F4-4CD7-A9BA-ECCEC9DDFDAF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3E6-0101-4CEC-A972-85E84337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40B-6A62-4BE0-832B-24F216DC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076-64E9-4AA5-9447-8A9F4EAD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069-E1D5-4EC6-B56E-02DF658C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4AD-F080-4387-A787-C8A5A6EC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C81-6763-4219-BF72-74D7C05D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03F-B0B2-4E0A-B28A-9EFB6F41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A77-B5EB-4047-9814-E297B94A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5E7-7924-4BBA-AD77-085EEA18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2BE-3968-4CAC-9E55-81BEA064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1B7-1AC2-48A2-8B37-ACA1881A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AAE-49A5-45A2-9B89-0B94AE27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9785-4E96-43BE-AF59-40E5E49A0561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 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Helps you use your “noodle”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do I wonder now? 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5029200"/>
            <a:ext cx="8686800" cy="762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H="1">
            <a:off x="1904760" y="914400"/>
            <a:ext cx="3886200" cy="411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What should I investigate next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75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asy to go back to the sourc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8600" y="2362320"/>
            <a:ext cx="7772400" cy="6094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Rereading may clear up question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Label the main idea now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2057400"/>
            <a:ext cx="1600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1752480" y="838080"/>
            <a:ext cx="335304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remember what this note is abou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8120" y="15228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Tag it now, or later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990720" y="2819520"/>
            <a:ext cx="25146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H="1">
            <a:off x="3504960" y="914400"/>
            <a:ext cx="2971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57200" y="5715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s easier to tag when you have more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Put it in a cluster, now or later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320" y="1676520"/>
            <a:ext cx="18288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696080" y="1676520"/>
            <a:ext cx="129564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2057040" y="12952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572000" y="1295280"/>
            <a:ext cx="304812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457200" y="5715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s easier to cluster when you know mor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luster2"/>
          <p:cNvPicPr/>
          <p:nvPr/>
        </p:nvPicPr>
        <p:blipFill>
          <a:blip r:embed="rId1"/>
          <a:stretch/>
        </p:blipFill>
        <p:spPr>
          <a:xfrm>
            <a:off x="-76320" y="0"/>
            <a:ext cx="91918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uster view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Get help along the way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705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Get feedback, make changes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Print out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-mail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t up “share” within NoodleBib to get comment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nough information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Now it’s time to overview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an I add </a:t>
            </a:r>
            <a:r>
              <a:rPr b="0" i="1" lang="en-US" sz="2800" spc="-1" strike="noStrike">
                <a:solidFill>
                  <a:srgbClr val="406b8c"/>
                </a:solidFill>
                <a:latin typeface="Arial"/>
              </a:rPr>
              <a:t>more tags </a:t>
            </a: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now that I know more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Label details, themes, concepts you se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Tags will help you order - and reorder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Do I have notes with similar titles?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re they about the same idea (subtopic)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at if I put them together in a cluster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ing tags and cluster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Play with the order, be curious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at if I try new combinations of notes? (search by tags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Find all notes with the same ta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earch two or more common tag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Does this suggest new ways to analyze what I know?  New ideas?  New questions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ollowup2"/>
          <p:cNvPicPr/>
          <p:nvPr/>
        </p:nvPicPr>
        <p:blipFill>
          <a:blip r:embed="rId1"/>
          <a:stretch/>
        </p:blipFill>
        <p:spPr>
          <a:xfrm>
            <a:off x="0" y="2286000"/>
            <a:ext cx="8555040" cy="4400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on’t forget to foll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your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deas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19" name="Picture 4" descr="followup1"/>
          <p:cNvPicPr/>
          <p:nvPr/>
        </p:nvPicPr>
        <p:blipFill>
          <a:blip r:embed="rId2"/>
          <a:stretch/>
        </p:blipFill>
        <p:spPr>
          <a:xfrm>
            <a:off x="533520" y="1295280"/>
            <a:ext cx="8516880" cy="3267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609480" y="3352680"/>
            <a:ext cx="6858000" cy="1143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04920" y="5334120"/>
            <a:ext cx="7696080" cy="106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store, organize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evelop your own idea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Think about what’s important 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bibliography2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asy to add more if you need to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e your “noodle”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y organized, feel successfu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ccess your work from home and school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afeguard against accidental plagiarism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pend time on ideas, not on comma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curious, feel creative…have fun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” time…start thinking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itations + notes =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Work you’ll be proud of!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an accurate, relevant [source list, bibliography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orrect style, punctuation, formattin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check for quality, bala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your work: take notes, clump idea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ources stay linked to note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Easy to quote and refere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think: summarize, evaluate, question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bibliography2"/>
          <p:cNvPicPr/>
          <p:nvPr/>
        </p:nvPicPr>
        <p:blipFill>
          <a:blip r:embed="rId1"/>
          <a:stretch/>
        </p:blipFill>
        <p:spPr>
          <a:xfrm>
            <a:off x="-38160" y="-4284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0" y="12189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List view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6248520" y="2286000"/>
            <a:ext cx="1676160" cy="457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notes_inline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05720" y="914040"/>
            <a:ext cx="1676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Source</a:t>
            </a:r>
            <a:br>
              <a:rPr sz="3600"/>
            </a:b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Not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H="1" flipV="1">
            <a:off x="2133360" y="685440"/>
            <a:ext cx="46479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 flipV="1">
            <a:off x="3428640" y="2361960"/>
            <a:ext cx="33526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Notetaking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Three-part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apture author’s words, image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Get quotes and attribution right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nnotate the “cut-and-paste”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Helps you understand author’s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araphrase in your own word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nalyze how it fits your research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sk questions, evaluate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Prompts for original thinking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7600" y="759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ut-and-paste firs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get quotes and attribution righ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>
            <a:off x="1600200" y="1752480"/>
            <a:ext cx="2819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6629400" y="1752480"/>
            <a:ext cx="3808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733920" y="1371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word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5715000" y="13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imag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00400" y="7596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olor-code your idea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 flipH="1">
            <a:off x="3580920" y="1828800"/>
            <a:ext cx="838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5409720" y="1828800"/>
            <a:ext cx="114300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505320" y="1187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d for problems, Green for solution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71500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ighlight to notic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572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nnotation helps your comprehensio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440" y="1522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xplain it to yourself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4267080"/>
            <a:ext cx="8686800" cy="762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2133720" y="914400"/>
            <a:ext cx="3581280" cy="3352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Use words you understan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>admin</dc:creator>
  <dc:description/>
  <dc:language>en-US</dc:language>
  <cp:lastModifiedBy>Mrs. Reichert</cp:lastModifiedBy>
  <dcterms:modified xsi:type="dcterms:W3CDTF">2009-03-02T00:05:48Z</dcterms:modified>
  <cp:revision>30</cp:revision>
  <dc:subject/>
  <dc:title>Slide 1</dc:title>
</cp:coreProperties>
</file>