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61B-6B64-416F-9C30-87D9ED58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C5F1-1F6F-4136-8245-3622B7C7564D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8CB8-C374-4971-B453-FB7B77DE9D9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D80-4C08-48B0-8062-E1470967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612-7FE8-421A-854F-E2209FC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5D8-9F75-40B9-9CF4-DFCED13A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44D-CA82-466D-8832-E2FB9EFE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0B6-836D-4040-9AD8-CC74E0E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6C1-4E44-440C-A1C7-16DBA87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53D-01C9-48FE-8DB5-74F2395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570-E47D-4829-B76E-35D7FA00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E02-F286-4BC3-8B7B-663A9457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0FB-4163-4AAC-BA0B-5032D9F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B8E-66FF-4BE8-BAA3-E27BA82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99A-8C50-4662-8066-25DBC03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364-D226-4725-9858-A08C60C9FD94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I wonder now? 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502920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1904760" y="914400"/>
            <a:ext cx="388620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at should I investigate next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asy to go back to the sourc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362320"/>
            <a:ext cx="777240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094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ing may clear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Label the main idea now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2057400"/>
            <a:ext cx="1600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1752480" y="838080"/>
            <a:ext cx="335304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remember what this note is abou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8120" y="15228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ag it now, or later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990720" y="2819520"/>
            <a:ext cx="2514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3504960" y="914400"/>
            <a:ext cx="2971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tag when you have mor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ut it in a cluster, now or later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320" y="1676520"/>
            <a:ext cx="1828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696080" y="1676520"/>
            <a:ext cx="129564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7040" y="12952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0" y="1295280"/>
            <a:ext cx="3048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457200" y="5715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s easier to cluster when you know mor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luster2"/>
          <p:cNvPicPr/>
          <p:nvPr/>
        </p:nvPicPr>
        <p:blipFill>
          <a:blip r:embed="rId1"/>
          <a:stretch/>
        </p:blipFill>
        <p:spPr>
          <a:xfrm>
            <a:off x="-76320" y="0"/>
            <a:ext cx="91918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uster view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t up “share” within NoodleBib to get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ow it’s time to overview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8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Label details, themes, concepts you se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gs will help you order - and reorder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 I have notes with similar titles?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re they about the same idea (subtopic)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put them together in a cluster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ing tags and cluster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What if I try new combinations of notes? (search by tag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Find all notes with the same ta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earch two or more common tag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Does this suggest new ways to analyze what I know?  New ideas?  New questions?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19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ibliography2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time on ideas, not on comma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your work: take notes, clump idea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think: 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bibliography2"/>
          <p:cNvPicPr/>
          <p:nvPr/>
        </p:nvPicPr>
        <p:blipFill>
          <a:blip r:embed="rId1"/>
          <a:stretch/>
        </p:blipFill>
        <p:spPr>
          <a:xfrm>
            <a:off x="-38160" y="-42840"/>
            <a:ext cx="9220320" cy="6943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121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6248520" y="2286000"/>
            <a:ext cx="1676160" cy="45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notes_inline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05720" y="914040"/>
            <a:ext cx="1676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Source</a:t>
            </a:r>
            <a:br>
              <a:rPr sz="36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H="1" flipV="1">
            <a:off x="2133360" y="685440"/>
            <a:ext cx="46479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 flipV="1">
            <a:off x="3428640" y="2361960"/>
            <a:ext cx="3352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Notetaking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Three-part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nnotate the “cut-and-paste”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Helps you understand author’s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6b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araphrase in your own word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857160" indent="-399960">
              <a:spcBef>
                <a:spcPts val="64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Prompts for original thinking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1600200" y="1752480"/>
            <a:ext cx="2819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6629400" y="1752480"/>
            <a:ext cx="3808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73392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15000" y="13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olor-code your idea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3580920" y="1828800"/>
            <a:ext cx="8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5409720" y="1828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50532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, Green for solution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71500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to noti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on help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otecard"/>
          <p:cNvPicPr/>
          <p:nvPr/>
        </p:nvPicPr>
        <p:blipFill>
          <a:blip r:embed="rId1"/>
          <a:stretch/>
        </p:blipFill>
        <p:spPr>
          <a:xfrm>
            <a:off x="17640" y="1752480"/>
            <a:ext cx="91072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4267080"/>
            <a:ext cx="8686800" cy="762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2133720" y="914400"/>
            <a:ext cx="3581280" cy="3352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62120" y="57150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word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Mrs. Reichert</cp:lastModifiedBy>
  <dcterms:modified xsi:type="dcterms:W3CDTF">2009-03-02T00:05:48Z</dcterms:modified>
  <cp:revision>30</cp:revision>
  <dc:subject/>
  <dc:title>Slide 1</dc:title>
</cp:coreProperties>
</file>