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2DFD-C93E-45AF-A843-85E3B2ABA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D4E1-6E6F-4125-A385-D15031CB49F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F1E-504E-405F-AD70-8997E5D1776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27C-9083-453E-80EE-CAF3D7D8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813-0113-4C6E-9764-2314F87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663-EBB1-4361-A642-81BEE4FF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09F-9088-4F59-B34F-3E6948E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BB1-A6AA-4E77-AB03-5067FE8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C06-8312-4BBB-872D-430D1514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449-4B37-4B27-909A-A9302D4B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9F8-823A-40ED-85D8-39BB155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49F-7BA3-4F3C-B2DB-F0A54B79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485-065E-482A-8CDA-EF06034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254-BD62-4601-B771-47C3F7C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94E-9D0E-468B-85BE-A77C08A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7795-3F18-448F-A6AC-3E4B3D77B258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I wonder now? 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502920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1904760" y="914400"/>
            <a:ext cx="388620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at should I investigate next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asy to go back to the sourc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362320"/>
            <a:ext cx="777240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ing may clear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Label the main idea now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2057400"/>
            <a:ext cx="1600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1752480" y="838080"/>
            <a:ext cx="335304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remember what this note is abou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8120" y="15228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ag it now, or later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90720" y="2819520"/>
            <a:ext cx="2514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3504960" y="914400"/>
            <a:ext cx="2971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tag when you have mor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ut it in a cluster, now or later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320" y="167652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696080" y="1676520"/>
            <a:ext cx="129564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7040" y="12952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0" y="1295280"/>
            <a:ext cx="3048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cluster when you know mor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luster2"/>
          <p:cNvPicPr/>
          <p:nvPr/>
        </p:nvPicPr>
        <p:blipFill>
          <a:blip r:embed="rId1"/>
          <a:stretch/>
        </p:blipFill>
        <p:spPr>
          <a:xfrm>
            <a:off x="-76320" y="0"/>
            <a:ext cx="9191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uster view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t up “share” within NoodleBib to get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ow it’s time to overview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Label details, themes, concepts you se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gs will help you order - and reorder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 I have notes with similar titles?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re they about the same idea (subtopic)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put them together in a cluster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ing tags and cluster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try new combinations of notes? (search by tag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Find all notes with the same ta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earch two or more common tag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es this suggest new ways to analyze what I know?  New ideas?  New questions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9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time on ideas, not on comma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your work: take notes, clump idea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think: 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bibliography2"/>
          <p:cNvPicPr/>
          <p:nvPr/>
        </p:nvPicPr>
        <p:blipFill>
          <a:blip r:embed="rId1"/>
          <a:stretch/>
        </p:blipFill>
        <p:spPr>
          <a:xfrm>
            <a:off x="-38160" y="-4284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248520" y="2286000"/>
            <a:ext cx="1676160" cy="45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notes_inline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05720" y="914040"/>
            <a:ext cx="1676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Source</a:t>
            </a:r>
            <a:br>
              <a:rPr sz="36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H="1" flipV="1">
            <a:off x="2133360" y="685440"/>
            <a:ext cx="46479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 flipV="1">
            <a:off x="3428640" y="2361960"/>
            <a:ext cx="3352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taking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Three-part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nnotate the “cut-and-paste”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Helps you understand author’s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araphrase in your own word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Prompts for original thinking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1600200" y="1752480"/>
            <a:ext cx="2819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6629400" y="1752480"/>
            <a:ext cx="380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3392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15000" y="13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olor-code your idea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3580920" y="1828800"/>
            <a:ext cx="8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5409720" y="1828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50532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, Green for solution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71500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to noti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on help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426708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2133720" y="914400"/>
            <a:ext cx="3581280" cy="335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word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Mrs. Reichert</cp:lastModifiedBy>
  <dcterms:modified xsi:type="dcterms:W3CDTF">2009-03-02T00:05:48Z</dcterms:modified>
  <cp:revision>30</cp:revision>
  <dc:subject/>
  <dc:title>Slide 1</dc:title>
</cp:coreProperties>
</file>